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0F3-A619-4125-BF02-B8B972A6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D79-F785-4812-834E-040F1783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79B-DBDF-41BB-9943-1C21146C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1E2-E2B6-4D31-92AD-FD71E9F5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50B-F897-469C-8553-68707BF8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87A-7050-410B-A29D-183809E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33B-32B1-4C8B-BE86-32B3013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214-1150-4510-83BE-AD1F7147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364-2388-45D3-8F2B-C776CD2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8E59-F9E5-43AF-A229-03ADD564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936-1237-42C1-B925-7CC0D38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3C3-6D37-4B22-9072-5683888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8C1-4497-4A88-9837-A87F678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9F6C-1B01-433B-AC43-91D54F0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19D0-AD9F-4870-94F4-6C76741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360-64CE-4AA8-B23C-31442B62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97F-8378-4EAB-AD6B-8471CFB3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11D-0736-4C58-97C3-C7BCF45C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1CA-7F74-4745-A1AE-B15D6F6F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B10-0F6A-4548-B78B-8FB6FB66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CC0-C4AF-45FF-80E8-1F5CDCA1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26E-C04F-40D2-93BF-2215F37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52E-2DDC-4E61-B919-8AFA5F6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22B-7852-4329-B595-18CC590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0B2-4C90-45A5-A681-B2025DAC79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9922-365A-49CE-9186-C2657D959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Nature of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Nature of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7C49-0AA5-4049-9E77-99D2FD18F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D0F-5CC7-40C2-9E59-985244ECC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id you study for the first biology t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much time did you spend study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Elements and Isot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emic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 pure substance that consists entirely of one type of at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s are represented by one or two letter symbo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C for carbon, H for hydrogen, Na for 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E:\LESSON OVRVW batch 3\art\BIO10NAE_01_02_02_005_LRIM_03.png"/>
          <p:cNvPicPr/>
          <p:nvPr/>
        </p:nvPicPr>
        <p:blipFill>
          <a:blip r:embed="rId1"/>
          <a:stretch/>
        </p:blipFill>
        <p:spPr>
          <a:xfrm>
            <a:off x="6512040" y="2286000"/>
            <a:ext cx="263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Elements and Isot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umber of protons in the nucleus of an element is called its atomic nu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Carbon</a:t>
            </a:r>
            <a:r>
              <a:rPr b="0" lang="ja-JP" sz="2800" spc="-1" strike="noStrike">
                <a:solidFill>
                  <a:srgbClr val="558ed5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s atomic number is 6, meaning that each atom of carbon has six protons and, consequently, six electrons. (Not in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an element may have different numbers of neutr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the same element that differ in the number of neutrons they contain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top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1440" y="42670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otal number of protons + neutrons in the nucleus of an atom is called its mass nu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topes are identified by their mass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. carbon-12, carbon-13, and carbon-1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0" y="41911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y have the same number of electrons, all isotopes of an element have the same chemical proper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E:\LESSON OVRVW batch 3\art\BIO10NAE_01_02_02_005_LRIM_04.png"/>
          <p:cNvPicPr/>
          <p:nvPr/>
        </p:nvPicPr>
        <p:blipFill>
          <a:blip r:embed="rId1"/>
          <a:stretch/>
        </p:blipFill>
        <p:spPr>
          <a:xfrm>
            <a:off x="1440" y="419112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Radioactive Isotop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isotopes are radioactive, meaning that their nuclei are unstable and break down at a constant rate over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determine the ages of rocks and foss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detect and treat canc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kill bacteria that causes food to spoi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labels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follow the movements of sub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emic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substance formed by the chemical combination of two or more elements in definite propor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ientists show the composition of compounds by a kind of shorthand known as a chemical formul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le salt: Na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sical and chemical properties of a compound are usually very different from those of the elements from which it is 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For example, sodium reacts explosively with cold water. Chlorine is a very reactive, poisonous, greenish gas that was used in battles during World War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However, the compound sodium chloride--table salt--is a white solid that dissolves easily in water, is not poisonous, and is essential for the survival of most living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s in compounds are held together by various types of chemical bo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nd formation involves the electrons that surround each atomic nucle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ctrons that are available to form bonds are called valence electr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types of chemical bonds are ionic bonds and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ic bo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med when one or more electrons are transferred from one atom to an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tom that loses electrons becomes positively charged.   An atom that gains electrons has a negative charge. These positively and negatively charged atoms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4419720"/>
            <a:ext cx="914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two uses for radioactive isotop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 ions are oppositely charged they are strongly attracted to each other, forming an ionic bo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onic bonds form between sodium and chlorine to form NaCl, table sal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E:\LESSON OVRVW batch 3\art\BIO10NAE_01_02_02_005_LRIM_06.png"/>
          <p:cNvPicPr/>
          <p:nvPr/>
        </p:nvPicPr>
        <p:blipFill>
          <a:blip r:embed="rId1"/>
          <a:stretch/>
        </p:blipFill>
        <p:spPr>
          <a:xfrm>
            <a:off x="0" y="3352680"/>
            <a:ext cx="9142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LESSON OVRVW batch 3\art\BIO10NAE_01_02_02_005_LRIM_07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odium atom easily loses its one valence electron and becomes a sodium ion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:\LESSON OVRVW batch 3\art\BIO10NAE_01_02_02_005_LRIM_08.pn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onic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hlorine atom easily gains an electron (from sodium) and becomes a chloride ion (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ovalent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electrons are shared by atoms instead of being transfer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ving electrons travel about the nuclei of both atoms, form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2 electrons = Single covalent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4 electrons = Double covalent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6 electrons = Triple 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ovalent Bond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that results when atoms are joined together by covalent bonds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smallest unit of most compou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This diagram of a water molecule shows that each hydrogen atom is joined to water</a:t>
            </a:r>
            <a:r>
              <a:rPr b="0" lang="ja-JP" sz="2400" spc="-1" strike="noStrike">
                <a:solidFill>
                  <a:srgbClr val="558ed5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s lone oxygen atom by a single covalent bo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Each hydrogen atom shares two electrons with the oxygen at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E:\LESSON OVRVW batch 3\art\BIO10NAE_01_02_02_005_LRIM_09.png"/>
          <p:cNvPicPr/>
          <p:nvPr/>
        </p:nvPicPr>
        <p:blipFill>
          <a:blip r:embed="rId1"/>
          <a:stretch/>
        </p:blipFill>
        <p:spPr>
          <a:xfrm>
            <a:off x="6381720" y="1981080"/>
            <a:ext cx="27622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Van der Waals Forc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different elements do not all have the same ability to attract electr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atoms have a stronger attraction for electrons than do other ato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olecules are close together, a slight attraction can develop between the oppositely charged regions of nearby molecu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Van der Waals Force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olecules are close together, a slight attraction can develop between the oppositely charged regions of nearby molecu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1 The Nature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ily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three subatomic particles found in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how compounds are different from the elements they are made up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two main types of chemical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A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tudy of chemistry begins with the basic unit of matter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cept of the atom has been around for nearly 2500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 comes from the Greek w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o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hich mean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ble to be cu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019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oms are incredibly small. Placed side by side, 100 million atoms would make a row only about 1 cm l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hree subatomic particles that make up atoms are protons, neutrons, and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otons and Neu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s and neutrons have about the same mass. (1 a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ns are positively charged particles (+) and neutrons carry no charge at a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 forces bind protons and neutrons together to form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he center of the at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lec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248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negatively charged particle (–) with only 1/1840 the mass of a prot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ons are in constant motion in the space surrounding the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lectron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096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atoms have equal numbers of electrons and protons, their positive and negative charges balance out, and atoms are electrically neut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E:\LESSON OVRVW batch 3\art\BIO10NAE_01_02_02_005_LRIM_01.png"/>
          <p:cNvPicPr/>
          <p:nvPr/>
        </p:nvPicPr>
        <p:blipFill>
          <a:blip r:embed="rId1"/>
          <a:stretch/>
        </p:blipFill>
        <p:spPr>
          <a:xfrm>
            <a:off x="6248520" y="2133720"/>
            <a:ext cx="256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7:59:44Z</dcterms:created>
  <dc:creator>Alex</dc:creator>
  <dc:description/>
  <dc:language>en-US</dc:language>
  <cp:lastModifiedBy>dzahm</cp:lastModifiedBy>
  <dcterms:modified xsi:type="dcterms:W3CDTF">2013-09-20T18:21:08Z</dcterms:modified>
  <cp:revision>96</cp:revision>
  <dc:subject/>
  <dc:title>Slide 1</dc:title>
</cp:coreProperties>
</file>